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5.jpeg" ContentType="image/jpeg"/>
  <Override PartName="/ppt/media/image35.png" ContentType="image/png"/>
  <Override PartName="/ppt/media/image26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media/image17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9AD9-5928-4807-939C-64B8C3390F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435-D97C-419F-A30D-59C8C91B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F71-687E-4751-B14A-6BF759BB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DBE-EB92-41F2-96F6-7481ABA4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7F6-B9B6-4AAF-A20F-FCDF8F46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ADAE-F3B0-435B-AA44-16F2399C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58A7-700F-4B01-A8F3-2A1A5515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DEA4-AF53-47E8-ABB3-B64FC0BE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8F6A-C98A-4A48-B4F0-A4AB6E0F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3030-D36D-4A25-960C-9244FA3A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631F-F17F-4A57-9B3B-E31475C1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ED8B-3B22-4ABB-A7B3-186B83AB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562-0874-4456-B62F-F0A17E2D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E10B-EB1F-4F6F-924E-0DA89D99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9963-FDB9-49FC-8EF9-49BE9BE6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9956-B0A5-47B8-B275-408239AE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31B2-E1AB-4BED-95C3-13747FE9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0E86-F43D-4342-A0E4-7F8569CF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0C1-9E04-4140-8700-A93D218C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BC7-3514-4208-A7F4-86D2B3B0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8EC-943D-4F17-B873-100AF2F1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678-4678-4EB3-BC44-8987564D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DD2-EEA8-47E2-A286-9C231D7A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EDC-9822-44BB-A590-4806A400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D8B-E6B0-456B-887F-E7DC1F71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3607-4FAE-4B84-BACF-CE07CF67F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FDD9-75CF-40C9-B6DE-0DA41985D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  <p:sp>
        <p:nvSpPr>
          <p:cNvPr id="15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7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  <p:sp>
        <p:nvSpPr>
          <p:cNvPr id="19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3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6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207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1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LEGION</cp:lastModifiedBy>
  <dcterms:modified xsi:type="dcterms:W3CDTF">2018-03-22T10:05:18Z</dcterms:modified>
  <cp:revision>12</cp:revision>
  <dc:subject>Part 2 of Solar System</dc:subject>
  <dc:title>Part 2 of Solar System</dc:title>
</cp:coreProperties>
</file>